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554-9BB8-49A7-91F9-CD32B3D9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F27-F266-4531-82F2-8BFA4E9B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407AA-C6BF-4D03-A241-50CBF339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62177-503E-4508-8975-2C6482C6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D615A-FF41-4DD8-AD29-A6A0FCCF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0996E-52DA-4F14-80C6-8FEBBEFA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76F30-F486-45AC-9343-040952DB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00373-770A-41A8-835A-57408382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7F4FB-323B-4949-8681-587635D2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C79EF-D28D-471A-B0FC-D738591C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2F0A0-94B7-40CA-8926-91525F6B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CF3EB-C709-4754-82D2-02CBCA3B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6EAE-F698-4066-B4D5-3F8B3619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9253A-B1DE-46AA-8E36-E6319774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76347-6CB0-4397-8217-9EC3D16B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FC8AB-3EF6-4279-AA48-A97B4D06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817A1-E847-428B-9D54-27C14068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F6824-0559-4631-AEA7-B1F80F7E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3FE69-1B1F-4582-BE14-790CE48F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9D4F6-DEC7-4504-8A07-C1AF52D5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3940B-84EC-4E2E-8350-C415D5C8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9CCBE-580B-41AF-BF42-7DC51981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56B33-ED36-49E8-845D-D29F5AAD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749-F8DC-4244-98BF-6A65EEC5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BE80D-21EA-4792-9ED7-4B51AA65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1E588-FE6E-49F5-B0C8-EFAA7A94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BD2E6-2271-4AD2-9D0A-BBA54816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8A19E-1D38-4DD9-B387-56FC9BA5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8C54B-2977-4333-9B29-6DD10E5A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F8F61-3DB2-420C-AB83-0338FB7E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1B272-6CCE-46E1-AE55-9B94B21A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5635F-1CE0-4BCA-96DD-CB0A1472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23715-E330-44FC-84E9-FAC4D4E3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8686F-24C9-40A0-B387-AC5B57F3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8903-8EF1-4D60-A161-F5192724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6BB67-7556-46FD-9F3B-6F3EE16C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10D71-1382-4684-B3A8-958AFDC4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FFCC0-7F05-4361-A398-80FD1AD1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D1174-EA96-4114-A41D-4349ED4C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BE666-3BEA-4623-87F3-3F621137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24EEC-765E-45E1-9633-AC0611B3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56C6D-A8FF-4D90-AD28-56EA9002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3C6CD-5360-462B-BC5A-B9697987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31E09-447A-4B93-8DB4-B4D1F64B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6542F-C63A-4AA9-ACE2-4DAB76E2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87D8-BC68-48C9-BB2B-9DE0DA4E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C2978-C0D6-47BC-A374-D150EF9B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72FFE-C03F-45C3-8461-AF395AA2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6D633-913C-4E2D-B93F-94A8B134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A88C2-C52B-4AFA-AFAA-1B3812B1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DDC77-ACCD-4629-B6C3-14FFD939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CB120-90D2-4B95-9882-7EFF3CE7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6B4A7-F224-4FE2-BA09-E4F0A70D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52E74-8EA5-4BFC-8F3A-8143E7E3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A477D-0BB1-466C-93DA-B71091A0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F48A3-63B5-451E-AFFD-9EC64056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84FE-AC3C-41C6-B742-79A106C1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1E193-4565-4C26-AAD1-A607BB78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DBD65-6020-4316-8967-025B8B65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7925E-7A25-4651-8A9E-65EEADDE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FC66E-F5B4-45C1-BF8B-310925C2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E76394-E618-4526-90D3-ACF0810B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F5DA2-D0F6-47E7-A5EE-251EC468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66DE0-653D-4532-B9E2-CA2DED6C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83D85-CADE-42E4-8413-264637DE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CBFEE-69B3-4DCE-8CE0-C05822AA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450A67-70AB-4F5C-AD5E-56902A57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A437-915B-43CA-A2F8-4223F6BB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BB13F4-423F-434C-87DE-6D161DC4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B87A0-5F05-435B-81F1-59AB2FD2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367B0-DAB7-477E-9E10-9172C1E2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10AC4-0EB8-496C-B5A8-F0FA1583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E2EB95-9BDB-48D2-B0E4-E08ED0A3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9D043-722C-4C7D-AA1A-2500794F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46D70D-7A46-47FE-98CF-05E6152C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3207A-3481-4B23-84EA-3242C593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AF795-3586-47FC-9D6A-6AC7F54D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88E118-BB59-4CAA-BD78-F2B141B9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53BB-2903-486B-8FD0-98458F8E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4D037-2CC4-48C9-8C3E-011BC61A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393CB9-C6D4-48C0-BCB4-91A8A51B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7BA7AD-68BF-4104-A687-6335BADF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75A50C-EFE3-4BC9-A3A4-27C22F02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C0A01-4E90-49C8-8D11-8B30EA87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3DA9BC-DF72-4BB4-A888-41B0637C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7FF596-4093-4540-B3FA-40C867E9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B9B74-4335-48AA-8BFB-07C75C2A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EE92AC-7EB4-4D96-BEE7-8153156B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307340-6AB3-44DD-94FB-B7ED9858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C577-5273-4389-A176-A9B991CF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595FD0-1482-48E8-88F5-7B9C0FFD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38B2C-DEF6-4DEE-8E3A-63177817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9A427A-1759-4599-B91D-0542E8FD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A799E8-B15F-4F3C-93D7-6DF30093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135DB3-CFE1-44D6-938C-0380CF97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65DD20-BC6F-4AFC-ABF3-0DF87436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C56AC-F575-4C40-ACD8-379EA890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AB88F-6EBF-4BC9-8FDA-3DCE40B6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F6990-A7F6-4912-A068-ABFE7080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FBA526-53A9-4BF2-9F6A-77A0B161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F2F9-E2CD-4519-839A-F79AD633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747AD3-A998-4036-80AB-F7A8B62D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820FBA-D3DF-4FFE-A94D-DF769CD7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6160BE-E8FD-4E33-B81E-ADD5691C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F67020-A960-4800-A7B3-04A646C4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459C38-60D1-4D3F-A61E-88028F83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9DF4A8-8774-4480-8837-48DF9B2F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2D4111-192C-404B-81F1-28384BEE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2E0D2E-6F73-43C1-9FD4-C6FA3910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7D56F8-C1BB-49F8-A705-E8C592C1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97E256-61BA-4263-9C95-3EF7D0EB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930-A87A-4790-AB35-C1DD950D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16B4-6704-4DE0-8BCE-7C552B1D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23ABE0-8AA2-4624-B6E5-C08BF98A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FE879B-431B-40F1-8688-2BA3B33F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1E5156-ACDF-4B7A-A7FC-1138BD95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4D3946-6D1C-432C-B720-7234356E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21B0F-69F9-42E5-8E8E-D85F6D6A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C64B94-329B-48A0-AB54-7151C449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5B95E6-49ED-4684-AD67-33740E9A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175EE9-470E-4BA6-83CB-BB0C3563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96002B-CBA4-4DC4-A49B-B6114952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9EFBA3-7678-4009-9160-AF27B743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7E5D-DE85-4C55-B00C-F180798E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449346-F142-4AA5-B758-6CADA580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C696C1-AC42-4708-B017-34106530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14BAB2-994F-4265-BA8D-A03B3AB7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0C5A6A-D560-485F-AD47-018EF292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8A7F57-6E29-46A5-9FC2-24C5DD3D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7AA2B-9CC4-47DC-9141-FAAA6DD1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51F977-F482-4C3D-9EFF-1FB8CAA9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33E705-EDB3-4270-88E6-B64669B2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AB8634-3DB2-4E41-AA31-9DB431D2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2BBAF1-8B5A-457C-9912-9336D162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D174-297B-4C6B-BA45-BEDB0B01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57EBFF-3DC5-44A9-9068-1D7185C3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B15C07-CFE5-4F81-959D-9A8C9895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8B47AE-3F38-4A40-8EA9-FB9FC89B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0A824F-84BE-4CA2-AA65-BF22DB1F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4CB720-6D77-4305-9240-AC01651C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119E2B-C106-4055-B8A8-B36E86DC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1214B5-6DAF-4BF6-A2DE-B824F75D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C2A880-50F4-4F4F-AD1B-CBC31B5F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34B880-FF83-423C-B7C3-C376A894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EC7944-A6C4-4C15-BA6A-17AD00E5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E126-47F6-4AB0-94BD-F519C199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F1163F-25F3-41A2-8787-6CCF15C8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41FC09-A08E-4BB4-9205-B2D4AB87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BB309B-8B07-4AA2-B079-EEF5CB8B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9C96CF-C9DA-412F-B741-138AAF13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623CE1-9A7E-467E-A46A-36046685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26D723-D033-4B0B-99D9-6BE6EA52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FE3CC2-9BFF-40F6-B499-CA52F833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904262-B0B3-4D13-B477-CD6A20FC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68899C-91B4-450C-8544-C2968AEB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45151E-5542-4B27-9A7B-7008D577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0181-3B3A-4EE2-88B3-DE49B300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45F48A-24A0-47B5-ACCF-3BB7EDE4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6A85FA-33EB-4F2D-8473-EF876335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2D5DD2-84F1-46D1-A61D-FF9F0E6E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4B70AC-844D-4FD1-9D1F-8D286208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A546CA-E421-4056-BBDF-E8EB12E2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2373F1-E627-40FF-B505-8D9899C4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5C6A80-EDF9-4D54-AC8C-7C8E90FF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D5E087-C5E6-47DF-9482-4E58B61B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00DBEF-81D1-4C7B-A55F-F54A14E6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24EB12-4034-4470-B1B7-AA7CB98A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192EC-3173-433B-B956-5BDA705D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A7D630-27BF-466C-9A0C-786B9883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925373-D406-4A2B-9F35-34870403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6148EE-20E7-4D72-A889-B53D1256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BD428-6AE4-4A4F-8C8E-BC4735C5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B59BE-4B4A-457E-9E17-C1F641D6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39E59-5A9D-43DD-9C5D-949646CD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EB990-387A-4884-961E-DA4734BA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CB3-F2BE-4650-85F8-988AB5D8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63E0A-F88C-40D8-AAE8-E66E3B26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46EB2-18A8-444A-9B04-DBF2B93D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E1761-031B-4F59-9F02-7427F91B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77CD8-F302-4EDD-BE23-896AF615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A9919-BC1B-43FD-BF24-90689CE6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17149-5CE9-4148-9289-E519C42A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3B919-643B-4E7F-B395-413A9BD1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D8659-9DE7-4F08-9E18-72E90B45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4C2A9-424B-49A8-B5D8-6E29293E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E5156-0DBB-45FE-8271-499F8A32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499-B74F-42AC-B7DC-B25E5CFF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6AE87-C41F-4BBC-BFE0-2E072BD0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6CC18-6636-4A74-963C-4BFE5346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7CE2B-9F39-47A3-81F0-92D5A205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7C0B8-28AF-4469-8F89-B36E8153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7E65A-AA22-492F-860E-C67C2BF2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AC47F-5D53-4504-9B94-4CD3421D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A98BB-32A3-45FD-8682-135B3739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42DDE-B818-4DDB-90CE-8C97F61B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C46AD-F27A-47C4-9F30-DB797AE3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D1D00-E35F-4215-A739-C82DDDDA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24D-415A-4574-A542-AFCA1130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86E2E-41F9-438D-828C-9A0F7140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853DF-B0FC-4A97-8B20-3DF77407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21B71-2517-4118-9F8E-64F39495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397A5-7DEA-48DE-8940-66301BDD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05A9D-A2B3-4CF5-922C-55AA554B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D8B72-E1DF-4D4C-AC5B-276180DC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955D9-5CB8-478A-B4B3-27BD0293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3E3E0-7BFA-4A97-915A-77F3792A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10928-75DA-44F9-9BCE-D8E94206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CE2CF-F058-4780-B8CC-F3BC1496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931-2E21-4AB1-BB2B-B984CBE9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C33A5-B9E6-4E05-9005-3A8BBD5A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9936A-2171-4A69-BF62-2048A365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5EFF4-4A46-4AB9-8F65-1BA06E48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998B3-F922-47CE-9EF8-135440D6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6A41E-21E9-41AE-9AE9-935A8F66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B6A0D-8969-44C8-9E08-E68341DF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B1132-CE16-4DAF-9939-56802540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4BA3A-E8A4-41D9-90CC-10D1E254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DEEBB-72E4-4CBD-B8EF-F83E6891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237CE-F3E5-4D6B-8887-4A93D9FC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588-57C0-47F3-8E62-76C00B1A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E2059-7094-427A-8EC6-E4530B81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C7DB8-2490-411D-98B5-2887B783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355CF-5D99-4426-A75D-ADC55E20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A4DDA-D9B1-443F-91C2-0D8C14C7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B10B0-C556-42DB-B4B4-A6433D9A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AE6EA-596C-42C4-A66D-F3AAAC6F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3F825-762F-4CCA-A8C4-5A9906E1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BAF1F-6B7B-4BEE-852E-2F2ECB05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1443D-2209-4F80-A55E-D48F09B9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F122D-FF0A-4E1F-A5D2-DDF31E11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C88-D9BE-4A5B-BCC3-C0175332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5EBD7-5D40-4805-9AC8-A4A02F95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E4124-B0EE-4B4C-AC87-2C1F2262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B869E-1C5D-4616-9EC1-83A4120B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CC90E-F0C0-45ED-8826-55CAEADF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5BB28-E02B-462E-81F5-6C889679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F4890-5D7A-4DF8-8808-9C3147A6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F8A8A-431C-4016-AFFC-6731E703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627F7-64F9-47CB-B1FC-F34C2FF0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5B333-73FE-4A0C-AC8B-222A5655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7132C-D794-40A0-A163-89F3E291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2CB-0402-41E8-A519-0DFC91C4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567C9-3657-49AC-A428-7CDA45F1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6DBF2-F860-4C6A-993D-2E9D22A6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FB3B1-3F8A-4386-80E2-6DC1CC35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18B2A-222B-4616-8ECE-FF6C9B55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05A61-2077-4F55-9C11-AFE2B026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D0D6D-E211-43D4-8B1E-82B512ED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B250D-3F57-4BD0-B18D-94F02DFC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A5D40-FE0B-4584-A8E1-19D5C01E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D4598-65FC-4E82-96D0-7BC6A208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0671B-5CB3-4885-B34D-E4252917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E505-B4FA-403E-9869-C4B13A52E3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F9CB-4026-473E-AC15-DCC4F6FF05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FA32-275D-4E37-8A2C-181FB88C9C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3B22-8CAC-4826-A194-92ED1387C4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DF3C-FBC1-4B4A-85F4-37E3D9210F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325E-050D-4583-BF82-F2E4611785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2E2B-E592-4D16-9EEB-48AF39E3D2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D8B0-9C22-42BA-ADC2-9D91E48306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8BE1-77A3-4E1A-B303-B5638AC38B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DA46-B91F-4315-83B3-0F008C425C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3943-BA20-47F8-AF36-A5ADD6DE71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C2E3-7404-4729-A02D-CC6687EAFC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D8D2-8F50-456D-B200-AAECE3577C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6FC6-A531-43A3-BEA4-5645B6FDE4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713F-925E-4F3F-A599-1045AB25FB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9003-B01C-4D4A-A590-9F5145F84B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C2A4-9B40-442A-B1B3-84628DFB8E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A7AB-F118-42B8-82FE-67ADB127B5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F30B-EA24-4FBF-89D7-C659842786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61B9-7123-402D-93BA-6BCFE4D9D5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3252-720E-4008-8AFD-A3C25D8A7E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1293-5692-4451-BA3F-AE3E697355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F130-D974-43D7-9B37-02752BE704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C2FF-18F9-40B9-974E-FD1446DB17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63A1-1640-491F-B50A-18D864CCD5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768B-AABC-4476-B6BD-DA44988D40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FCCB-7D2C-4A2C-A9B5-A44A3371C2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A21F-6AD5-4088-B91D-AB4E933811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AA70-34A4-4763-BFA5-EA9B5D2B4A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D7DD-15EF-418B-8712-A14E710BE5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D22C-DF0D-4DE1-A6DF-BBC1A48BC5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2DC1-B7A2-49FA-A349-697322A174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B05A-1998-4FE4-ADA3-C3730B2CCC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E0B3-F892-4CF1-B799-9FE310F3D7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4C3F-E025-4EB4-8F24-BDC586E5A8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B058-A41E-44C1-AA10-E1F36953CD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9F69-C4D3-45F0-8B88-CAA2AD23F2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80B9-915A-4FEE-B6F2-E5C61E4319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587E-AA33-4508-B8AA-B509A2CB09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6BFA-6876-4557-829E-7D17DF4BCD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66920" y="3052800"/>
            <a:ext cx="4610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69633" descr=""/>
          <p:cNvPicPr/>
          <p:nvPr/>
        </p:nvPicPr>
        <p:blipFill>
          <a:blip r:embed="rId1"/>
          <a:stretch/>
        </p:blipFill>
        <p:spPr>
          <a:xfrm>
            <a:off x="271440" y="797040"/>
            <a:ext cx="8601120" cy="58006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3419640" y="3083040"/>
            <a:ext cx="502920" cy="7920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5680080" y="308304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7956720" y="3070080"/>
            <a:ext cx="502920" cy="7923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900000" y="4091040"/>
            <a:ext cx="7993080" cy="4316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971640" y="4710240"/>
            <a:ext cx="7704000" cy="7920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7"/>
          <a:stretch/>
        </p:blipFill>
        <p:spPr>
          <a:xfrm>
            <a:off x="900000" y="5718240"/>
            <a:ext cx="7704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819000" y="900000"/>
            <a:ext cx="7506000" cy="50580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403280" y="2852640"/>
            <a:ext cx="3097440" cy="9367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403280" y="3860640"/>
            <a:ext cx="3097440" cy="936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403280" y="4941720"/>
            <a:ext cx="3097440" cy="9367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364000" y="2852640"/>
            <a:ext cx="3097440" cy="9367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364000" y="3860640"/>
            <a:ext cx="3097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738360" y="1419120"/>
            <a:ext cx="7667280" cy="4019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826920" y="2824200"/>
            <a:ext cx="2737080" cy="8920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755640" y="4005360"/>
            <a:ext cx="2736720" cy="8920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4788000" y="2766960"/>
            <a:ext cx="3097080" cy="8920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4716360" y="3833640"/>
            <a:ext cx="2737080" cy="8924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4643280" y="4768920"/>
            <a:ext cx="273708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857160" y="1157400"/>
            <a:ext cx="7429680" cy="45432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3527640" cy="9352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3527640" cy="934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900000" y="4508640"/>
            <a:ext cx="3527640" cy="934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4716360" y="2349360"/>
            <a:ext cx="3527640" cy="9352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6"/>
          <a:stretch/>
        </p:blipFill>
        <p:spPr>
          <a:xfrm>
            <a:off x="4716360" y="3429000"/>
            <a:ext cx="3527640" cy="934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7"/>
          <a:stretch/>
        </p:blipFill>
        <p:spPr>
          <a:xfrm>
            <a:off x="4716360" y="4508640"/>
            <a:ext cx="3527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7352" descr=""/>
          <p:cNvPicPr/>
          <p:nvPr/>
        </p:nvPicPr>
        <p:blipFill>
          <a:blip r:embed="rId1"/>
          <a:stretch/>
        </p:blipFill>
        <p:spPr>
          <a:xfrm>
            <a:off x="733320" y="1395360"/>
            <a:ext cx="7677360" cy="4067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332000" y="3284640"/>
            <a:ext cx="2879640" cy="8650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1258920" y="4365720"/>
            <a:ext cx="2879640" cy="8650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5292720" y="3298680"/>
            <a:ext cx="2879640" cy="8654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5219640" y="4379760"/>
            <a:ext cx="28796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6324" descr=""/>
          <p:cNvPicPr/>
          <p:nvPr/>
        </p:nvPicPr>
        <p:blipFill>
          <a:blip r:embed="rId1"/>
          <a:stretch/>
        </p:blipFill>
        <p:spPr>
          <a:xfrm>
            <a:off x="852480" y="1762200"/>
            <a:ext cx="7439040" cy="3333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3311640" cy="9363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3311640" cy="9367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4932360" y="2997360"/>
            <a:ext cx="3311640" cy="9363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4932360" y="4076640"/>
            <a:ext cx="3311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5300" descr=""/>
          <p:cNvPicPr/>
          <p:nvPr/>
        </p:nvPicPr>
        <p:blipFill>
          <a:blip r:embed="rId1"/>
          <a:stretch/>
        </p:blipFill>
        <p:spPr>
          <a:xfrm>
            <a:off x="366840" y="304920"/>
            <a:ext cx="8410320" cy="62481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1332000" y="3500280"/>
            <a:ext cx="2808360" cy="9367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971640" y="4437000"/>
            <a:ext cx="2808360" cy="9367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900000" y="5502240"/>
            <a:ext cx="2808360" cy="5191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755640" y="5978520"/>
            <a:ext cx="51116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4276" descr=""/>
          <p:cNvPicPr/>
          <p:nvPr/>
        </p:nvPicPr>
        <p:blipFill>
          <a:blip r:embed="rId1"/>
          <a:stretch/>
        </p:blipFill>
        <p:spPr>
          <a:xfrm>
            <a:off x="309600" y="793800"/>
            <a:ext cx="8524800" cy="5514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403280" y="2836800"/>
            <a:ext cx="2664000" cy="952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2664000" cy="952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900000" y="4869000"/>
            <a:ext cx="2664000" cy="504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900000" y="5445000"/>
            <a:ext cx="6193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2231" descr=""/>
          <p:cNvPicPr/>
          <p:nvPr/>
        </p:nvPicPr>
        <p:blipFill>
          <a:blip r:embed="rId1"/>
          <a:stretch/>
        </p:blipFill>
        <p:spPr>
          <a:xfrm>
            <a:off x="309600" y="841320"/>
            <a:ext cx="8524800" cy="54673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1258920" y="3213000"/>
            <a:ext cx="4033800" cy="8636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971640" y="4235400"/>
            <a:ext cx="4033800" cy="8636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1042920" y="5286240"/>
            <a:ext cx="475308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971640" y="5791320"/>
            <a:ext cx="626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51:3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